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0B3-0026-4B78-BC4F-C20BA4E587D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/" TargetMode="External"/><Relationship Id="rId2" Type="http://schemas.openxmlformats.org/officeDocument/2006/relationships/hyperlink" Target="http://www.youtube.com/watch?v=wj8TGhcCnxs&amp;feature=related" TargetMode="External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Video: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6F94-56A5-4857-A44B-13041B5448A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949C-B042-4300-A64B-322ACFFFE4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AF65-9D28-44FC-A04B-EE06F2AF13E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DEC2-0871-415D-90AB-4963BBA1921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4C29-8BE6-41BA-91F4-9479FD4B60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3DB7-39BE-4289-AC42-59BABDD0992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65F5-D1BB-4F9D-9236-997DA5A9A4A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95EA-2D3A-4939-8FD3-463E40D501F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9CAD-C354-476B-A57A-8684C8126C9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133-519D-45D4-B40B-9A62D7CC7E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47A7-584D-48F1-B88D-8F7255A571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0F42-C2FE-4F6C-9ECF-8FF6E85FB3E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DE21-6259-41CC-BD8A-B6A2B97615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787E-9FEB-43E2-96D5-D14E5AD2C3F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ED1-10A8-488E-9CB2-D7DB7B05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7B1-2D98-4CA6-8C9D-F3403872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F9F-2A33-48AD-94C1-3711B512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E38-8519-4E19-8AEC-66219AF8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66A-6BD0-48CA-B8C1-859DD587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462-0C76-4E9E-A296-0DD3AF2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E71-F12D-4467-9049-CC97CFD1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68A-6D91-4422-AD59-62587223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839-101E-46A3-AE34-136DB24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46C-EF13-4B50-8412-4827D11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CEC-4327-40FB-9690-C5899ABA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13B-E01A-476E-B1AE-72B2243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92B2-8A25-4517-9796-91BB028B2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lecules that absorb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otosynthetic pigments are embedded in the thylakoid membra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colour of the pigment comes from the wavelength (λ) of light it refl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re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76640" y="3048120"/>
            <a:ext cx="377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uresf04am/lect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in chlorophyll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ght energy to a higher potential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captured by molecul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photoexcitation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otochembgsu.com/students/ma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ergy from the Sun to synthesize complex organic molecules;  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04-02T17:40:43Z</dcterms:modified>
  <cp:revision>74</cp:revision>
  <dc:subject/>
  <dc:title>Slide 1</dc:title>
</cp:coreProperties>
</file>